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a:t>
            </a:r>
            <a:r>
              <a:rPr b="0" lang="en-US" sz="2800" spc="-1" strike="noStrike">
                <a:solidFill>
                  <a:srgbClr val="000000"/>
                </a:solidFill>
                <a:latin typeface="Arial"/>
              </a:rPr>
              <a:t> </a:t>
            </a:r>
            <a:r>
              <a:rPr b="0" lang="en-US" sz="2400" spc="-1" strike="noStrike">
                <a:solidFill>
                  <a:srgbClr val="000000"/>
                </a:solidFill>
                <a:latin typeface="Arial"/>
              </a:rPr>
              <a:t>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in anatomy, is a hollow muscular organ that pumps blood through the body. The heart, blood, and blood vessels make up the circulatory system, which is responsible for distributing oxygen and nutrients to the body and carrying away carbon dioxide and other waste products. The heart is the circulatory system’s power supply. It must beat ceaselessly because the body’s tissues – especially the brain and the heart itself – depend on a constant supply of oxygen and nutrients delivered by the flowing bloo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uman heart is shaped like an upside-down pear and is located slightly to the left of center inside the chest cavity. About the size of a closed fist, the heart is made primarily of muscle tissue that contracts rhythmically to propel blood to all parts of the bod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v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ri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s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lo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up the circulatory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eart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function of the heart’s lower two cha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ide of the heart is responsible for pumping oxygen-rich blood to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oxygen-rich blood return to the he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prevents blood from flowing backward in the he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yocar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endothe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heart nourish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name three main coronary arteri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o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l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right prepositio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blood, and blood vessels make...........the circulatory system, which is responsible.............distributing oxygen and nutrients............the body and carrying..............carbon dioxide and other waste product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mbers collect blood that pours..............from veins, blood vessels that return blood to the hea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oxygen-poor blood feeds..............two large veins which empty..........the right atrium..................the hea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passes.................the left atrium...............the left ventricle, from where it is pumped.............of the heart.............the aorta, the body’s largest arter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ner surfaces of the heart’s chambers are lined...............a thin sheet of shiny, white tissue known as the endocardium.</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nouns corresponding to the following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thm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disease preven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2:11:30Z</dcterms:modified>
  <cp:revision>40</cp:revision>
  <dc:subject/>
  <dc:title>Slide 1</dc:title>
</cp:coreProperties>
</file>